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9587-81E4-4749-81A6-2CC93278B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BE89-1081-48DB-A8BF-C74521B7C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EB4A-5960-4DFC-9D5D-0E06FB1DB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7F19-DFFF-4FF7-BDE0-75BFCE530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834C-FC9A-4A72-8BB9-79C0FB250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9FD9-F105-49D7-BA38-A750B0832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668A-83D3-4890-BA9B-50A1AC156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65BC-341C-43F3-9B61-6AE3A785F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869E-91F0-4F2B-BC09-9E2764B5A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46C2-F615-4048-BC2D-B96EC83F5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7B4A-AD09-4A39-A49C-35C3B43B8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4065-5D20-4F20-A501-4CAEE65EE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1-</a:t>
            </a:r>
            <a:fld id="{D49B57BE-4F1F-4547-8E1F-FF8B1B6314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4167360"/>
            <a:ext cx="756936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808056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ción 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learned how to form past participles. You will now learn how to form the present perfect indicati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etérito perfecto de indic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 compound tense that uses the past participle. The present perfect is used to talk about what some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 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Spanish, it is formed with the present tense of the auxiliary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past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1676520" cy="5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DA0E-CE7B-49D1-B294-088CF8DC95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243320"/>
            <a:ext cx="8229600" cy="14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B24C-81B9-4966-B88A-DD2CB3D0A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articiple does not change in form when it is part of the present perfect tens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changes in form when it is used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jec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48768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1ED5-8AA7-4A74-8F1B-3627EDEFB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the present perfect indicative generally is used just as in English: to talk about what someone has done or what has occurred. It usually refers to the recent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495600"/>
            <a:ext cx="8229600" cy="15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46EB-B8FB-46FE-BC21-116A41DE3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glish, the auxiliary verb and the past participle are often separated. In Spanish, however, these two elements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past participle—cannot be separated by any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22960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935520"/>
            <a:ext cx="8229600" cy="250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E1A1-483B-40B4-883B-CC8056004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ny object or reflexive pronouns are placed immediately b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17640"/>
            <a:ext cx="8229600" cy="15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05CA-98FE-4A74-AA81-8F6843C47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ha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a main verb or an auxiliary verb in English. As a main verb, it 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le as an auxiliary, it 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3546360"/>
            <a:ext cx="8229600" cy="83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6AAC-44F4-4A14-87C6-ACF4D9D005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rm the present perfec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 the third-person singula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(ha) + hab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152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F09B-6CCB-4915-8B42-01DA68FCF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23800" y="2138400"/>
          <a:ext cx="8089920" cy="3809880"/>
        </p:xfrm>
        <a:graphic>
          <a:graphicData uri="http://schemas.openxmlformats.org/drawingml/2006/table">
            <a:tbl>
              <a:tblPr/>
              <a:tblGrid>
                <a:gridCol w="8089920"/>
              </a:tblGrid>
              <a:tr h="6710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erfecto de indicativo de estos verb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16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frutar, comer, vivir) yo 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er, adelgazar, compartir) tú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enir, estar, correr) usted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er, resolver, poner) ella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cir, romper, hacer) ellos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ntenerse, dormirse) nosotros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star, escribir, ver) yo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vir, correr, morir) él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478320" y="294480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ff"/>
                </a:solidFill>
                <a:latin typeface="Comic Sans MS"/>
              </a:rPr>
              <a:t>he disfrutado, he comido, he viv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312A-657B-4009-8213-09ECC3C54A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48:54Z</dcterms:modified>
  <cp:revision>65</cp:revision>
  <dc:subject/>
  <dc:title>PowerPoint Presentation</dc:title>
</cp:coreProperties>
</file>